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682-10A0-429F-9CED-0829F8CC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C7E-9072-4B0D-8B76-0B5BE24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768-7A54-468E-83C5-14D7B813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0E7-A806-4A3C-B07C-CCECB968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886-4B3E-4EBE-952E-488E4411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C9A-28C1-4016-831B-807D7EBA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86B-72BB-4B15-8046-3B9C1169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646-A8C7-4DCD-97CE-AD79D2C9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C8B-FDA7-40D6-A19A-7CF0A6ED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F95-5048-4ACC-BBEA-DC70FF8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499-14CC-4E78-BF91-78341E71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72B-A3FD-4AD6-9466-E1C5253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DAD6-966D-4CA6-A12A-217124DE1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8 V šírom sve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ia sa množ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šírom sve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ia sa množ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hlasujú blízky Pánov deň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končí sa cesta plná hlož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plní sa našich túžob s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plní sa našich túžob 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, mesia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ia už d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raz v hrôz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sa zachvel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budili sa národy, čo sp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roda už k žatve dozr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roda už k žatve dozr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o domo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nádej už sa napln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lní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ľúbil v svojom slov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í svoj ľud žiaľov, tráp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í svoj ľud žiaľov, tráp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priamte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odvihnite hla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vzbudzuje Spasiteľov hla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a blíži víťaz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víta nás nová, večná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víta nás nová, večná vla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9:36:36Z</dcterms:modified>
  <cp:revision>9</cp:revision>
  <dc:subject/>
  <dc:title>Bez nadpisu</dc:title>
</cp:coreProperties>
</file>